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370-76F8-4176-8794-B2B2A9F0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CA8-E88C-406F-B820-6B5CB930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CD8-EAAE-4790-A665-6B8064FF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685-ADF1-4F23-901E-177966E9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9ECA-785C-46B1-B254-19DA58D7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0C0A-5229-4F90-B8AF-B07F7FC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1D3-3096-49F6-8306-C4251B3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CFBA-1802-4EAE-BBE9-7A3653A0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8A8-D5ED-4EEE-BB0C-98F257A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1CFF-0F92-4FB7-AA0D-49F8190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124C-8B42-4E41-A9B3-7EFC6C4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617-B942-4B67-B9A6-564BD97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89EE-B827-4AD4-8724-B1A5D5A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416D-FB04-4DFB-A4F9-7FF4980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22A-EF89-4717-A134-E584AA0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B443-C005-4F50-8B1D-09CC8F03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078-44E5-432F-B7A6-2774A539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D70-2ECE-40B2-9365-E84183F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CA-A34C-4F29-9C01-C043E2A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67F-833A-4310-A2E0-C35B5A4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8AA-3226-453D-8A47-A94E969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BE9-3812-412F-93F5-A41F810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AB8-EAF8-4F98-8A52-2401C32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2A2-EB13-44E4-8D29-5A729E3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818B-3581-4494-BFD5-E17D90B7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864A-F384-4F6D-B46B-70D529894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7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ck to listen to the story.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0" descr="Signmaker's Assistan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5244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ugh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do the right thing. Sometimes it's hard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 – ble – mak - 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often intentionally causes difficulties or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rew the ball over the fe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ut in line in front of 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r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these words.  You can read these words because you know tha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stand for the sound 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phone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c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photos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graphs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graph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905120" y="2514600"/>
          <a:ext cx="5486400" cy="343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&amp;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</a:t>
            </a:r>
            <a:br>
              <a:rPr sz="40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ad the questions and answer with a one-sentence answer, using the vocabulary wor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o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ght help you get up on time in the mor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 you have learned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take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ight you need to hire 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som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ngs can you do in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you can’t do in the morning or at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otice about the wor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made up of two separate words: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are made up of two or more words put together are calle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ompound 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ometimes figure out what a compound word means if you know the meanings of the words that make up the compound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erson who makes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Use these words to mak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ll playyed a joke on 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Bill played a joke on h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he would’nt talk to he all d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She wouldn’t talk to him all d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9900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Do you think Norman should or </a:t>
            </a:r>
            <a:r>
              <a:rPr b="0" i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should not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 have used signs to trick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  -    should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words mean exactly the same thing, but the contractio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sh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shorter and it sounds less formal or more like real spee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’t tease anima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’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’t tease animals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should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 – pol – o - giz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you are sorry for doing or saying something that has upset someone,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friend for speaking in a mean 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mom for not putting my toy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ren’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s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oul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57800" y="152352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h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t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3047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did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as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57800" y="14475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’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’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you’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 read about children who started groups that help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journal entry about a practical joke you play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omeon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ideas. They started some important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dea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They started some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mporta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roublemaker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the plumber would close the door behind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 brought a thick cable to hang the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omise I will not giggle, mumble, talk, or wri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wrap my knee with a little tape the minute I ge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 - i – 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ar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 country if you were born there or if you are legally accepted by a country to be a citiz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goes to school in the United States but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S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must b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rder to v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, I forgot the knife for cutting the limb that was caught on the roo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gnome and the wreath in the yard by the auto so everybody will see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auto accident was  he’s fawl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 auto accident was   his faul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 did n’t read those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He didn’t read the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(or judgemen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 - 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people make decisions about what is sensible, they use thei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you decide what color to paint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tell the truth, you 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 signmaker’s assistant who got into trouble.  Tomorrow we will read about Norma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difficul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you mad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4792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roublemake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often use bad judgmen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do the wrong thing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can you do when you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 mistak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est Judgment"/>
          <p:cNvPicPr/>
          <p:nvPr/>
        </p:nvPicPr>
        <p:blipFill>
          <a:blip r:embed="rId1"/>
          <a:srcRect l="0" t="0" r="0" b="8504"/>
          <a:stretch/>
        </p:blipFill>
        <p:spPr>
          <a:xfrm>
            <a:off x="3657600" y="533520"/>
            <a:ext cx="4495680" cy="577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2590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sten to this song about what to  do if you’ve done something  wro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bald man waltz with his daugh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used and caught a look at the little f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auto because she had to get a m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salt and sauce on the raw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u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r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ound does the letter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we will study the different spellings that stand for this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de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“fault.”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mport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useed chawk to draw a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used chalk to draw a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y goed the write 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y went the right w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Talk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Respo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000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 a followed by l or ll usually stands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s aw and au can stand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au is followed by gh, the au may stand for the vowel sound in ball, and the letters gh are sil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Users\Freida Lewis\Desktop\sound cards\Card 4.jpg"/>
          <p:cNvPicPr/>
          <p:nvPr/>
        </p:nvPicPr>
        <p:blipFill>
          <a:blip r:embed="rId1"/>
          <a:stretch/>
        </p:blipFill>
        <p:spPr>
          <a:xfrm>
            <a:off x="685800" y="533520"/>
            <a:ext cx="21146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n unusual sig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Goes to School: The School Play/Full of Beans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: Wilbur's Wobbly Bed / Wiggly Fun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Wonder: Billboards, Volcanoes, and Aquariums (26: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: Between People and Communities (12:1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g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c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ya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w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819520" y="2666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2133720" y="342900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2438280" y="4876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00cc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w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race and Morris but mostly D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s of animals are the characters, and what are some of the things they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imals really talk and join clu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his story really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about something that could really 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ople are like people we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y and do things like real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ke-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imals might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things migh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keep track of how well we understand a story by stopping when something doesn’t make s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can “fix” what we don’t understand by changing how we read or by asking ques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have a foto of a dolf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have a photo of a dolph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 was tuff to take a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t was tough to take a pictur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shortened into one word, or a contractio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ll take the place of the lette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contractions lik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formed with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verb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’s mother said,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n’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’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’s, I’ll, didn’t, don’t, she’s, we’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“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’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/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signmaker’s assistant and how he helps out or doesn’t help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438280"/>
          <a:ext cx="6096240" cy="3237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about a time when you had to apologize for somethin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ll about Norman. He makes an awful mistake and causes everybody to get upset. Have you ever caused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bout Norman. He makes an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stake an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rybody to get upset. Have you eve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ollect it and store it away. Often this can be food or money, and sometimes it is done secret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brother likes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andy in 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dog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s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bones in his doghou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king liked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gold coi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, you tell them off or disciplin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know Mom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eating cookies before a m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teache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not doing my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 – ter - 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top someone who is talking or you stop something that is happ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o not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ther people while they are tal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peaker with a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oot and Holl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Hat 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/o/ s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e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the sounds to yourself and then read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ugh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w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8" descr="Phonics Songs and Rhymes Chart 25"/>
          <p:cNvPicPr/>
          <p:nvPr/>
        </p:nvPicPr>
        <p:blipFill>
          <a:blip r:embed="rId1"/>
          <a:stretch/>
        </p:blipFill>
        <p:spPr>
          <a:xfrm>
            <a:off x="4191120" y="609480"/>
            <a:ext cx="4029120" cy="571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3124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sten for words with the /aw/ sound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nd words with this sound in “Tall Paul.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ugust I like to draw on the walk with ch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ke Ann because she likes to t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launch the toy near the aut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ught the football the way Dad ta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ild Background: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Sig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1" name="Picture 6" descr="Webbing Tool Screenshot"/>
          <p:cNvPicPr/>
          <p:nvPr/>
        </p:nvPicPr>
        <p:blipFill>
          <a:blip r:embed="rId1"/>
          <a:stretch/>
        </p:blipFill>
        <p:spPr>
          <a:xfrm>
            <a:off x="2666880" y="2743200"/>
            <a:ext cx="3733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ought or opi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aken serious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o say that something is someone’s 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makes signs or public notices that giv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people who live in a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e time of day between noon and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ssis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helps someone else do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wisd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knowledge based o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feverish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done with great excitement or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 Vocabul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28840" y="15235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’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d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’t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y understand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tie, the opposite of t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owly, in a slow 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for the shorter words in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will learn more about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taught to do the right thing. Sometimes it's hard though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was a rough hike to the clif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It was a rough hike to the cli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one sounded phun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The phone sounded funn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a spider who learns a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a sign helped you know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to go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'll read more about Anansi. His mama says, "Don't eat my stew!“ Anansi doesn't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’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we'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ad more about Anansi. His mama says, "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my stew!“ Anansi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es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 - te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, you tell or show how you disagree about something you think is not r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He tried to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when his parents grounded hi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neighbors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e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e building of a nearby fac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3-05T09:31:22Z</dcterms:modified>
  <cp:revision>30</cp:revision>
  <dc:subject/>
  <dc:title>Slide 1</dc:title>
</cp:coreProperties>
</file>